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1C5E-0F00-493C-A682-80E04AEC0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CDA4-F793-4729-8175-706DA328E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4596-EB89-410E-B455-6749B8DD5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flickr.com/photos/agathman/5469134899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7D7D-3C97-4754-BE5F-C5E41DD19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mun.ca/biology/scarr/Arginine_nutritional_mutants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2112-4B2A-401A-9B49-2D1FFC41F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0517-AA95-4DCE-B7D5-5B2B11D0F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8A47-2DD6-45C4-9F29-4FD8E3EFE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dnaftb.org/13/bio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an conclude that a disease is hereditary if there is a family history, i.e. a genetic link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22B2-2A1F-463D-8697-F824D0B28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gfmer.ch/genetic_diseases_v2/gendis_detail_list.php?cat3=18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734F-3DD1-4336-A612-0908D5147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d a book called Inborn Errors of Metaboism in 19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luded alkaptonuria, cystinuria, pentosuria, albi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EE2D-00B8-4A44-A423-C4511825B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iki.cstl.semo.edu/agathman/Proteins%20and%20genes.ashx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2B9D-7E79-4524-B26C-E485F275F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sandwalk.blogspot.com/2008/05/nobel-laureates-george-beadle-and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4347-4624-48C8-947B-59692B462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publications.nigms.nih.gov/thenewgenetics/livinglab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F166-BB94-47B9-A11A-71C00AC61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al nutrient medium contained inorganic salts, sugar, one of the B vita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6E19-D439-4920-ABD5-4EB494834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F2BD-8299-4832-8114-2FF7633AF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D773-BB50-440F-9C0C-41DF9D27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60CE-D3AA-4802-BCCC-754380427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A783-0548-4B7A-B6B9-2C217542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D5E2-616F-4BD8-A5D2-1805568E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3C89-9529-419F-B32F-E6ED4226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7D3E-8D28-43A9-8ADB-DE3EA58D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7989-E88B-4A48-B689-7983BE21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0202-3535-4480-9E11-19A168A1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3572-DDD6-4537-889E-0F48924F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485A-28A0-4A2F-AE94-8CF8AADE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1195-7FD4-4F7B-A619-193F4972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B884-2017-48C4-BD40-8D5BD7A2D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dnaftb.org/16/animation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ginine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5469134899_8a32c6785d"/>
          <p:cNvPicPr/>
          <p:nvPr/>
        </p:nvPicPr>
        <p:blipFill>
          <a:blip r:embed="rId1"/>
          <a:stretch/>
        </p:blipFill>
        <p:spPr>
          <a:xfrm>
            <a:off x="1913040" y="1981080"/>
            <a:ext cx="5316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38813_Arginine_metabolism"/>
          <p:cNvPicPr/>
          <p:nvPr/>
        </p:nvPicPr>
        <p:blipFill>
          <a:blip r:embed="rId1"/>
          <a:stretch/>
        </p:blipFill>
        <p:spPr>
          <a:xfrm>
            <a:off x="685800" y="738360"/>
            <a:ext cx="777240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Gene-One Enzy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dle &amp; Tatum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work resulted in the on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-one enzyme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accurately known a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gene-one polypept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cellent slideshow that shows the Beadle &amp; Tatum experi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ftb.org/16/animation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bald Garrod (1857-196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ish phys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d metabolic defects in newbo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d family history of certain ill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13bio"/>
          <p:cNvPicPr/>
          <p:nvPr/>
        </p:nvPicPr>
        <p:blipFill>
          <a:blip r:embed="rId1"/>
          <a:stretch/>
        </p:blipFill>
        <p:spPr>
          <a:xfrm>
            <a:off x="5222880" y="1981080"/>
            <a:ext cx="266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kaptonu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urine to turn 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mulation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kapt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u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209"/>
          <p:cNvPicPr/>
          <p:nvPr/>
        </p:nvPicPr>
        <p:blipFill>
          <a:blip r:embed="rId1"/>
          <a:stretch/>
        </p:blipFill>
        <p:spPr>
          <a:xfrm>
            <a:off x="685800" y="2624040"/>
            <a:ext cx="38098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rod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breaking down alkap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born error of metabolism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ed connection between DNA (genes) &amp;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Garrod didn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k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5469059067_04bb4c7886"/>
          <p:cNvPicPr/>
          <p:nvPr/>
        </p:nvPicPr>
        <p:blipFill>
          <a:blip r:embed="rId1"/>
          <a:stretch/>
        </p:blipFill>
        <p:spPr>
          <a:xfrm>
            <a:off x="2000160" y="1981080"/>
            <a:ext cx="514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dle &amp; Tatum (194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genetic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ied red bread mould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urospora cras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Nobel_Laureates_1958_Beadle_Tatum"/>
          <p:cNvPicPr/>
          <p:nvPr/>
        </p:nvPicPr>
        <p:blipFill>
          <a:blip r:embed="rId1"/>
          <a:stretch/>
        </p:blipFill>
        <p:spPr>
          <a:xfrm>
            <a:off x="4648320" y="2365200"/>
            <a:ext cx="380988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eurospora cras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ch3_mold"/>
          <p:cNvPicPr/>
          <p:nvPr/>
        </p:nvPicPr>
        <p:blipFill>
          <a:blip r:embed="rId1"/>
          <a:stretch/>
        </p:blipFill>
        <p:spPr>
          <a:xfrm>
            <a:off x="2673360" y="1981080"/>
            <a:ext cx="3795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dle &amp; Ta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. crass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able to grow on minimal nutrient medi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n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rain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. cras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rough exposure to X-rays or UV 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nt strains were unable to grow on minimal nutrient me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dle &amp; Ta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ome mutant strains, addi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gin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minimal nutrient medium resulted in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 pathway for synthesis of arginine was determined through experi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nt strain tested with intermedi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22:10:59Z</dcterms:created>
  <dc:creator>rubina khan</dc:creator>
  <dc:description/>
  <dc:language>en-US</dc:language>
  <cp:lastModifiedBy>rubina khan</cp:lastModifiedBy>
  <dcterms:modified xsi:type="dcterms:W3CDTF">2015-11-12T18:20:13Z</dcterms:modified>
  <cp:revision>120</cp:revision>
  <dc:subject/>
  <dc:title>Molecular Genetics</dc:title>
</cp:coreProperties>
</file>